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1.wmf" ContentType="image/x-wmf"/>
  <Override PartName="/ppt/media/image9.jpeg" ContentType="image/jpeg"/>
  <Override PartName="/ppt/media/image2.wmf" ContentType="image/x-wmf"/>
  <Override PartName="/ppt/media/chimes.wav" ContentType="audio/x-wav"/>
  <Override PartName="/ppt/media/image7.wmf" ContentType="image/x-wmf"/>
  <Override PartName="/ppt/media/MSj00748430000%5B1%5D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834-6BCE-4BEB-B2ED-2B8C1603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E563-532D-4B51-B902-B4A34955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11E-6F19-4D80-A0BC-C9314F72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90F-B8C7-42C9-8E62-B1960CD0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0A44-CFE3-4A73-8064-7109D36C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C160-6786-4F0D-B107-874B1B2C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D9EF-0492-46CD-BFA7-7A0BA1FA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6939-6858-4CAF-9E4D-B3862C01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3D43-0509-4B70-AF1D-A165FD9E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D7BF-49B0-4FF9-AFE8-D562C3C8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52DF-7B02-4A9E-83A8-0DCA2FDD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AE5F-168F-4E8D-BE1E-9CA4B2BB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FCA8-2A3B-4C3F-BCA9-D7DC62EE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D0F1-D308-4365-98C7-69F5FA31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87A8-72AA-4FD4-9558-B8E29D91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8879-3739-478C-BB05-B1E74952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0A7C-5FC6-4A52-9C64-353AD014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F52C-4226-4597-A31A-6F8BEA6E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F96A-6D2E-4010-9A3A-973B9092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D02E-AD7F-4A02-AC9B-B42FE831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61EA-E5D9-44F2-B7DB-EB42A25A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4714-7B1D-4BDD-AC47-E62B1633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7837-ABA6-46A3-B77C-8DC4C900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975-040A-47B5-BA9F-50DBB6CB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A112-561E-435F-B6CC-DB23D96473D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D295-8E67-4C31-8AC9-7137F5A5B39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jpeg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125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Making Words 4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 spd="slow" advTm="10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ll done!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other set of words…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are getting so clever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0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2065320" cy="4010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1081080" cy="3068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500"/>
                            </p:stCondLst>
                            <p:childTnLst>
                              <p:par>
                                <p:cTn id="26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j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84360" y="2205000"/>
            <a:ext cx="1542960" cy="1814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9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9500"/>
                            </p:stCondLst>
                            <p:childTnLst>
                              <p:par>
                                <p:cTn id="40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0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1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j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11280" y="2492280"/>
            <a:ext cx="1495440" cy="1797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0"/>
                            </p:stCondLst>
                            <p:childTnLst>
                              <p:par>
                                <p:cTn id="528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9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9500"/>
                            </p:stCondLst>
                            <p:childTnLst>
                              <p:par>
                                <p:cTn id="54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5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7500"/>
                            </p:stCondLst>
                            <p:childTnLst>
                              <p:par>
                                <p:cTn id="55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5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116000" y="2421000"/>
            <a:ext cx="1098720" cy="1944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6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6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9000"/>
                            </p:stCondLst>
                            <p:childTnLst>
                              <p:par>
                                <p:cTn id="6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9500"/>
                            </p:stCondLst>
                            <p:childTnLst>
                              <p:par>
                                <p:cTn id="68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8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68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8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69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9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7500"/>
                            </p:stCondLst>
                            <p:childTnLst>
                              <p:par>
                                <p:cTn id="69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9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1527120" cy="1814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403280" y="1916280"/>
            <a:ext cx="504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0"/>
                            </p:stCondLst>
                            <p:childTnLst>
                              <p:par>
                                <p:cTn id="804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9000"/>
                            </p:stCondLst>
                            <p:childTnLst>
                              <p:par>
                                <p:cTn id="8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9500"/>
                            </p:stCondLst>
                            <p:childTnLst>
                              <p:par>
                                <p:cTn id="82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1500"/>
                            </p:stCondLst>
                            <p:childTnLst>
                              <p:par>
                                <p:cTn id="82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2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3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3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v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042920" y="3141720"/>
            <a:ext cx="1513080" cy="1295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0"/>
                            </p:stCondLst>
                            <p:childTnLst>
                              <p:par>
                                <p:cTn id="942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9000"/>
                            </p:stCondLst>
                            <p:childTnLst>
                              <p:par>
                                <p:cTn id="9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9500"/>
                            </p:stCondLst>
                            <p:childTnLst>
                              <p:par>
                                <p:cTn id="95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6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96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6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3500"/>
                            </p:stCondLst>
                            <p:childTnLst>
                              <p:par>
                                <p:cTn id="96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6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6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6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7500"/>
                            </p:stCondLst>
                            <p:childTnLst>
                              <p:par>
                                <p:cTn id="97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7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v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2000160" cy="2874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4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0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8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9500"/>
                            </p:stCondLst>
                            <p:childTnLst>
                              <p:par>
                                <p:cTn id="109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09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0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1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0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10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0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10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0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1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6:09:57Z</dcterms:created>
  <dc:creator>Franklin</dc:creator>
  <dc:description/>
  <dc:language>en-US</dc:language>
  <cp:lastModifiedBy>Cynthia</cp:lastModifiedBy>
  <dcterms:modified xsi:type="dcterms:W3CDTF">2010-11-13T22:23:27Z</dcterms:modified>
  <cp:revision>10</cp:revision>
  <dc:subject/>
  <dc:title>Making Words</dc:title>
</cp:coreProperties>
</file>